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82F-0234-4C20-957C-0ADA217E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DE8-8F5E-4E1A-B3A1-D71815B5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FBA-0B08-4EF3-8380-54FBDD8C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0DC-FC48-4978-B429-616053D4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9B2-3EF9-43C9-9864-90A39BF3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52C-E161-4C28-A809-27328790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FC9-C61E-49FA-849C-7BF38618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840-70AA-4868-AC9B-CE2317A6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97D-6546-44CA-BEB5-C6EC0C2E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910-2553-4502-A45E-B7EA9569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67A-99CF-41AD-AE1A-5AA7A10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83D-8CE3-44E9-B737-15B681FF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8204-60E5-41AD-8345-30FAEBDF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hyperlink" Target="http://www.parrocchiando.it/forum/" TargetMode="External"/><Relationship Id="rId21" Type="http://schemas.openxmlformats.org/officeDocument/2006/relationships/hyperlink" Target="http://www.parrocchiando.it/forum/" TargetMode="External"/><Relationship Id="rId2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33360"/>
            <a:ext cx="8057880" cy="5705640"/>
            <a:chOff x="539640" y="333360"/>
            <a:chExt cx="8057880" cy="5705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539640" y="333360"/>
              <a:ext cx="8057880" cy="570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755280" y="549360"/>
              <a:ext cx="2448000" cy="5254560"/>
              <a:chOff x="755280" y="549360"/>
              <a:chExt cx="2448000" cy="525456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755280" y="549360"/>
                <a:ext cx="1440000" cy="5254560"/>
                <a:chOff x="755280" y="549360"/>
                <a:chExt cx="1440000" cy="5254560"/>
              </a:xfrm>
            </p:grpSpPr>
            <p:pic>
              <p:nvPicPr>
                <p:cNvPr id="45" name="" descr=""/>
                <p:cNvPicPr/>
                <p:nvPr/>
              </p:nvPicPr>
              <p:blipFill>
                <a:blip r:embed="rId2"/>
                <a:srcRect l="14264" t="44967" r="67871" b="4562"/>
                <a:stretch/>
              </p:blipFill>
              <p:spPr>
                <a:xfrm>
                  <a:off x="755280" y="549360"/>
                  <a:ext cx="144000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" descr=""/>
                <p:cNvPicPr/>
                <p:nvPr/>
              </p:nvPicPr>
              <p:blipFill>
                <a:blip r:embed="rId3"/>
                <a:srcRect l="14264" t="44967" r="67871" b="4562"/>
                <a:stretch/>
              </p:blipFill>
              <p:spPr>
                <a:xfrm>
                  <a:off x="755280" y="2924280"/>
                  <a:ext cx="144000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" name=""/>
              <p:cNvGrpSpPr/>
              <p:nvPr/>
            </p:nvGrpSpPr>
            <p:grpSpPr>
              <a:xfrm>
                <a:off x="1476000" y="549360"/>
                <a:ext cx="1727280" cy="2879640"/>
                <a:chOff x="1476000" y="549360"/>
                <a:chExt cx="1727280" cy="2879640"/>
              </a:xfrm>
            </p:grpSpPr>
            <p:pic>
              <p:nvPicPr>
                <p:cNvPr id="48" name="" descr=""/>
                <p:cNvPicPr/>
                <p:nvPr/>
              </p:nvPicPr>
              <p:blipFill>
                <a:blip r:embed="rId4"/>
                <a:srcRect l="20529" t="44967" r="67871" b="4562"/>
                <a:stretch/>
              </p:blipFill>
              <p:spPr>
                <a:xfrm>
                  <a:off x="1476000" y="549360"/>
                  <a:ext cx="93528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" descr=""/>
                <p:cNvPicPr/>
                <p:nvPr/>
              </p:nvPicPr>
              <p:blipFill>
                <a:blip r:embed="rId5"/>
                <a:srcRect l="20529" t="44967" r="67871" b="4562"/>
                <a:stretch/>
              </p:blipFill>
              <p:spPr>
                <a:xfrm>
                  <a:off x="2268360" y="549360"/>
                  <a:ext cx="93492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" name=""/>
              <p:cNvGrpSpPr/>
              <p:nvPr/>
            </p:nvGrpSpPr>
            <p:grpSpPr>
              <a:xfrm>
                <a:off x="1476000" y="2924280"/>
                <a:ext cx="1727280" cy="2879640"/>
                <a:chOff x="1476000" y="2924280"/>
                <a:chExt cx="1727280" cy="2879640"/>
              </a:xfrm>
            </p:grpSpPr>
            <p:pic>
              <p:nvPicPr>
                <p:cNvPr id="51" name="" descr=""/>
                <p:cNvPicPr/>
                <p:nvPr/>
              </p:nvPicPr>
              <p:blipFill>
                <a:blip r:embed="rId6"/>
                <a:srcRect l="20529" t="44967" r="67871" b="4562"/>
                <a:stretch/>
              </p:blipFill>
              <p:spPr>
                <a:xfrm>
                  <a:off x="1476000" y="2924280"/>
                  <a:ext cx="93528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" descr=""/>
                <p:cNvPicPr/>
                <p:nvPr/>
              </p:nvPicPr>
              <p:blipFill>
                <a:blip r:embed="rId7"/>
                <a:srcRect l="20529" t="44967" r="67871" b="4562"/>
                <a:stretch/>
              </p:blipFill>
              <p:spPr>
                <a:xfrm>
                  <a:off x="2268360" y="2924280"/>
                  <a:ext cx="93492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3" name=""/>
            <p:cNvGrpSpPr/>
            <p:nvPr/>
          </p:nvGrpSpPr>
          <p:grpSpPr>
            <a:xfrm>
              <a:off x="3348000" y="549360"/>
              <a:ext cx="2446920" cy="5254560"/>
              <a:chOff x="3348000" y="549360"/>
              <a:chExt cx="2446920" cy="525456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3348000" y="549360"/>
                <a:ext cx="1439640" cy="5254560"/>
                <a:chOff x="3348000" y="549360"/>
                <a:chExt cx="1439640" cy="525456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8"/>
                <a:srcRect l="14264" t="44967" r="67871" b="4562"/>
                <a:stretch/>
              </p:blipFill>
              <p:spPr>
                <a:xfrm>
                  <a:off x="3348000" y="549360"/>
                  <a:ext cx="143964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9"/>
                <a:srcRect l="14264" t="44967" r="67871" b="4562"/>
                <a:stretch/>
              </p:blipFill>
              <p:spPr>
                <a:xfrm>
                  <a:off x="3348000" y="2924280"/>
                  <a:ext cx="143964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" name=""/>
              <p:cNvGrpSpPr/>
              <p:nvPr/>
            </p:nvGrpSpPr>
            <p:grpSpPr>
              <a:xfrm>
                <a:off x="4068360" y="549360"/>
                <a:ext cx="1726560" cy="2879640"/>
                <a:chOff x="4068360" y="549360"/>
                <a:chExt cx="1726560" cy="287964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10"/>
                <a:srcRect l="20529" t="44967" r="67871" b="4562"/>
                <a:stretch/>
              </p:blipFill>
              <p:spPr>
                <a:xfrm>
                  <a:off x="4068360" y="549360"/>
                  <a:ext cx="93492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11"/>
                <a:srcRect l="20529" t="44967" r="67871" b="4562"/>
                <a:stretch/>
              </p:blipFill>
              <p:spPr>
                <a:xfrm>
                  <a:off x="4860360" y="549360"/>
                  <a:ext cx="93456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" name=""/>
              <p:cNvGrpSpPr/>
              <p:nvPr/>
            </p:nvGrpSpPr>
            <p:grpSpPr>
              <a:xfrm>
                <a:off x="4068360" y="2924280"/>
                <a:ext cx="1726560" cy="2879640"/>
                <a:chOff x="4068360" y="2924280"/>
                <a:chExt cx="1726560" cy="2879640"/>
              </a:xfrm>
            </p:grpSpPr>
            <p:pic>
              <p:nvPicPr>
                <p:cNvPr id="61" name="" descr=""/>
                <p:cNvPicPr/>
                <p:nvPr/>
              </p:nvPicPr>
              <p:blipFill>
                <a:blip r:embed="rId12"/>
                <a:srcRect l="20529" t="44967" r="67871" b="4562"/>
                <a:stretch/>
              </p:blipFill>
              <p:spPr>
                <a:xfrm>
                  <a:off x="4068360" y="2924280"/>
                  <a:ext cx="93492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13"/>
                <a:srcRect l="20529" t="44967" r="67871" b="4562"/>
                <a:stretch/>
              </p:blipFill>
              <p:spPr>
                <a:xfrm>
                  <a:off x="4860360" y="2924280"/>
                  <a:ext cx="93456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3" name=""/>
            <p:cNvGrpSpPr/>
            <p:nvPr/>
          </p:nvGrpSpPr>
          <p:grpSpPr>
            <a:xfrm>
              <a:off x="5940360" y="549360"/>
              <a:ext cx="2446920" cy="5254560"/>
              <a:chOff x="5940360" y="549360"/>
              <a:chExt cx="2446920" cy="525456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5940360" y="549360"/>
                <a:ext cx="1439640" cy="5254560"/>
                <a:chOff x="5940360" y="549360"/>
                <a:chExt cx="1439640" cy="5254560"/>
              </a:xfrm>
            </p:grpSpPr>
            <p:pic>
              <p:nvPicPr>
                <p:cNvPr id="65" name="" descr=""/>
                <p:cNvPicPr/>
                <p:nvPr/>
              </p:nvPicPr>
              <p:blipFill>
                <a:blip r:embed="rId14"/>
                <a:srcRect l="14264" t="44967" r="67871" b="4562"/>
                <a:stretch/>
              </p:blipFill>
              <p:spPr>
                <a:xfrm>
                  <a:off x="5940360" y="549360"/>
                  <a:ext cx="143964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" descr=""/>
                <p:cNvPicPr/>
                <p:nvPr/>
              </p:nvPicPr>
              <p:blipFill>
                <a:blip r:embed="rId15"/>
                <a:srcRect l="14264" t="44967" r="67871" b="4562"/>
                <a:stretch/>
              </p:blipFill>
              <p:spPr>
                <a:xfrm>
                  <a:off x="5940360" y="2924280"/>
                  <a:ext cx="143964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" name=""/>
              <p:cNvGrpSpPr/>
              <p:nvPr/>
            </p:nvGrpSpPr>
            <p:grpSpPr>
              <a:xfrm>
                <a:off x="6660720" y="549360"/>
                <a:ext cx="1726560" cy="2879640"/>
                <a:chOff x="6660720" y="549360"/>
                <a:chExt cx="1726560" cy="2879640"/>
              </a:xfrm>
            </p:grpSpPr>
            <p:pic>
              <p:nvPicPr>
                <p:cNvPr id="68" name="" descr=""/>
                <p:cNvPicPr/>
                <p:nvPr/>
              </p:nvPicPr>
              <p:blipFill>
                <a:blip r:embed="rId16"/>
                <a:srcRect l="20529" t="44967" r="67871" b="4562"/>
                <a:stretch/>
              </p:blipFill>
              <p:spPr>
                <a:xfrm>
                  <a:off x="6660720" y="549360"/>
                  <a:ext cx="93492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7"/>
                <a:srcRect l="20529" t="44967" r="67871" b="4562"/>
                <a:stretch/>
              </p:blipFill>
              <p:spPr>
                <a:xfrm>
                  <a:off x="7452720" y="549360"/>
                  <a:ext cx="93456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" name=""/>
              <p:cNvGrpSpPr/>
              <p:nvPr/>
            </p:nvGrpSpPr>
            <p:grpSpPr>
              <a:xfrm>
                <a:off x="6660720" y="2924280"/>
                <a:ext cx="1726560" cy="2879640"/>
                <a:chOff x="6660720" y="2924280"/>
                <a:chExt cx="1726560" cy="2879640"/>
              </a:xfrm>
            </p:grpSpPr>
            <p:pic>
              <p:nvPicPr>
                <p:cNvPr id="71" name="" descr=""/>
                <p:cNvPicPr/>
                <p:nvPr/>
              </p:nvPicPr>
              <p:blipFill>
                <a:blip r:embed="rId18"/>
                <a:srcRect l="20529" t="44967" r="67871" b="4562"/>
                <a:stretch/>
              </p:blipFill>
              <p:spPr>
                <a:xfrm>
                  <a:off x="6660720" y="2924280"/>
                  <a:ext cx="93492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9"/>
                <a:srcRect l="20529" t="44967" r="67871" b="4562"/>
                <a:stretch/>
              </p:blipFill>
              <p:spPr>
                <a:xfrm>
                  <a:off x="7452720" y="2924280"/>
                  <a:ext cx="934560" cy="287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3" name=""/>
          <p:cNvSpPr/>
          <p:nvPr/>
        </p:nvSpPr>
        <p:spPr>
          <a:xfrm>
            <a:off x="1295280" y="69228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rebuchet MS"/>
              </a:rPr>
              <a:t>Volontari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278136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rebuchet MS"/>
              </a:rPr>
              <a:t>Incontriamoci con i ragazzi delle altre parrocch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77336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rebuchet MS"/>
              </a:rPr>
              <a:t>Giochiamo con i più pic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445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rebuchet MS"/>
              </a:rPr>
              <a:t>Siamo uno..spettaco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292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rebuchet MS"/>
              </a:rPr>
              <a:t>Cinefo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549360"/>
            <a:ext cx="1871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rebuchet MS"/>
              </a:rPr>
              <a:t>Parla con..</a:t>
            </a:r>
            <a:r>
              <a:rPr b="0" i="1" lang="en-US" sz="1000" spc="-1" strike="noStrike">
                <a:solidFill>
                  <a:srgbClr val="000000"/>
                </a:solidFill>
                <a:latin typeface="Trebuchet MS"/>
              </a:rPr>
              <a:t>(incontriamo persone e ascoltiamo le loro esperienz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950080" y="549360"/>
            <a:ext cx="2437920" cy="1150920"/>
            <a:chOff x="5950080" y="549360"/>
            <a:chExt cx="2437920" cy="1150920"/>
          </a:xfrm>
        </p:grpSpPr>
        <p:sp>
          <p:nvSpPr>
            <p:cNvPr id="80" name=""/>
            <p:cNvSpPr/>
            <p:nvPr/>
          </p:nvSpPr>
          <p:spPr>
            <a:xfrm>
              <a:off x="5950080" y="1052640"/>
              <a:ext cx="243180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54400" y="549360"/>
              <a:ext cx="2433600" cy="84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ff"/>
                  </a:solidFill>
                  <a:latin typeface="Trebuchet MS"/>
                </a:rPr>
                <a:t>A PROPOSITO DI ATTUALITA’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780000" y="191628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rebuchet MS"/>
              </a:rPr>
              <a:t>..altre idee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72360" y="1700280"/>
            <a:ext cx="1871640" cy="2381040"/>
            <a:chOff x="6372360" y="1700280"/>
            <a:chExt cx="1871640" cy="2381040"/>
          </a:xfrm>
        </p:grpSpPr>
        <p:sp>
          <p:nvSpPr>
            <p:cNvPr id="84" name=""/>
            <p:cNvSpPr/>
            <p:nvPr/>
          </p:nvSpPr>
          <p:spPr>
            <a:xfrm>
              <a:off x="6372360" y="1700280"/>
              <a:ext cx="18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rebuchet MS"/>
                </a:rPr>
                <a:t>Ambiente: L’Italia torna al nucle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72360" y="2276640"/>
              <a:ext cx="18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rebuchet MS"/>
                </a:rPr>
                <a:t>Politica: Riforma Gelmini..parliamone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360" y="2924280"/>
              <a:ext cx="18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rebuchet MS"/>
                </a:rPr>
                <a:t>Cronaca: Violenza nelle carceri itali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72360" y="3500280"/>
              <a:ext cx="18716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rebuchet MS"/>
                </a:rPr>
                <a:t>Altro..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rebuchet MS"/>
                </a:rPr>
                <a:t>(ogni notizia che vi ha fatto pensare,arrabbiare, incuriosito..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65000" y="1116000"/>
            <a:ext cx="24051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5000" y="2276640"/>
            <a:ext cx="24051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" y="3573360"/>
            <a:ext cx="24051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5000" y="4724280"/>
            <a:ext cx="24051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1125360"/>
            <a:ext cx="24051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64360" y="6453360"/>
            <a:ext cx="287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rebuchet MS"/>
                <a:hlinkClick r:id="rId20"/>
              </a:rPr>
              <a:t>www.parrocchiando.it/foru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64360" y="6453360"/>
            <a:ext cx="287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rebuchet MS"/>
                <a:hlinkClick r:id="rId21"/>
              </a:rPr>
              <a:t>www.parrocchiando.it/foru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9512" t="16774" r="13882" b="24032"/>
          <a:stretch/>
        </p:blipFill>
        <p:spPr>
          <a:xfrm>
            <a:off x="179280" y="189000"/>
            <a:ext cx="8964720" cy="637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68360" y="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iu grand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4:55:18Z</dcterms:created>
  <dc:creator>utente</dc:creator>
  <dc:description/>
  <dc:language>en-US</dc:language>
  <cp:lastModifiedBy>MarcoMala</cp:lastModifiedBy>
  <dcterms:modified xsi:type="dcterms:W3CDTF">2011-10-29T12:01:04Z</dcterms:modified>
  <cp:revision>7</cp:revision>
  <dc:subject/>
  <dc:title>Diapositiva 1</dc:title>
</cp:coreProperties>
</file>